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E39-FCBA-4693-8225-8BCB2D61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440-31C7-4E0A-9C0A-63BE7480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5D90-1A94-44D7-B1D4-271A5940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97CB-2958-49D3-91A9-48BBB8F7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8B47-09E3-4A30-986C-20761BDC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B4AC-A709-404C-806A-60745E60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5CBA-CF51-4C1F-AD90-D22A2C78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8BC1-F87B-49E9-920D-75DC3BFC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AEF2-80E1-45D0-918B-992CA885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31B7-0958-42AC-BFF8-DF06F453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DEE0-2074-4F3C-8970-9B8F40EB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BD2-9F6A-4E5C-BD9A-BF9C608B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CB66-8651-4195-A7C2-31DF0CBC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0EE5-310C-4327-B7AC-4CE73117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7D23-0D41-4E82-97F7-49E5CE14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A67B-CDE1-45D6-8432-D708FB4B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5666-440A-447C-A50F-E4CA5878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4458-94F3-495E-81B1-EA742B6C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E55-7D2F-4A51-A8C6-039D3817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FF5-81A1-4B2A-80BF-95F4C31B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9DC-AEAB-4A84-94D1-0D21E0C8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D5E-1523-4A62-86FF-479C32FE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B39-0616-4AE1-8F58-AC499490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509-77CF-49EC-BF7D-F68A125A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281916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B1E3-3DEB-4805-BC7D-EDDFC542EDF7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44D2-F8D6-4F48-8175-838F0F59509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0066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Mean, Median, Mode </a:t>
            </a:r>
            <a:br>
              <a:rPr sz="4800"/>
            </a:b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&amp; Range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By Monica Yuskaiti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50532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3733920"/>
            <a:ext cx="1371600" cy="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92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9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17220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1360" y="365760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240" y="3657600"/>
            <a:ext cx="304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# of addend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96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9600" y="4114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4952880"/>
            <a:ext cx="137160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472428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9600" y="4724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4419720"/>
            <a:ext cx="0" cy="4572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47242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2819520"/>
            <a:ext cx="64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40480" y="5334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53341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6172200"/>
            <a:ext cx="12193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594360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The mean or average of these numbers is 16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373400" y="358128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973240" y="236232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2668680" y="2286000"/>
            <a:ext cx="36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9, 1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440080" y="228600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7, 11, 1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21160" y="38862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440080" y="220968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, 33, 41, 5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4028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3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in th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i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l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iddle number in a set of ordered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2059200" y="3352680"/>
            <a:ext cx="52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88080" y="480060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 = 7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335268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44956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41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ahoma"/>
              </a:rPr>
              <a:t>Sum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answer to an addition proble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Addend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numbers you added together to get the su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743920" y="4648320"/>
            <a:ext cx="36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+ </a:t>
            </a: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9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= 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15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754280" y="34290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4800600"/>
            <a:ext cx="746748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imes New Roman"/>
              </a:rPr>
              <a:t>This is your median number.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419112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5, 27,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42670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426708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34290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+ 25 =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342900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09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4160" y="335268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502920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14800" y="5257800"/>
            <a:ext cx="1905120" cy="0"/>
          </a:xfrm>
          <a:prstGeom prst="line">
            <a:avLst/>
          </a:prstGeom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44840" y="510552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44840" y="4419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409720" y="4800600"/>
            <a:ext cx="762120" cy="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33400" y="4317840"/>
            <a:ext cx="197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41ff"/>
                </a:solidFill>
                <a:latin typeface="Times New Roman"/>
              </a:rPr>
              <a:t>median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2973240" y="182880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6, 10, 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8000" y="42670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560" y="289548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33920" y="2819520"/>
            <a:ext cx="1218960" cy="12189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11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29718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1602000" y="1676520"/>
            <a:ext cx="608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7, 2, 12, 14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2600" y="342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77960" y="2590920"/>
            <a:ext cx="589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7, 12, 14, 19, 3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2880" y="4267080"/>
            <a:ext cx="408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 + 14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72200" y="4419720"/>
            <a:ext cx="152388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78560" y="4270320"/>
            <a:ext cx="94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1296720" y="1676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, 5, 81, 67, 25, 7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94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6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266688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91120" y="2666880"/>
            <a:ext cx="121896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6560" y="4267080"/>
            <a:ext cx="446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 + 67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4419720"/>
            <a:ext cx="167652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78560" y="4270320"/>
            <a:ext cx="132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6720" y="2819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, 25, 53, 67, 78, 8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od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most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Popular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A la 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ost popular or that which is in fashion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3352680"/>
            <a:ext cx="807696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96" name="CLOAC053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1828800" cy="588960"/>
          </a:xfrm>
          <a:prstGeom prst="rect">
            <a:avLst/>
          </a:prstGeom>
          <a:ln w="0">
            <a:noFill/>
          </a:ln>
        </p:spPr>
      </p:pic>
      <p:pic>
        <p:nvPicPr>
          <p:cNvPr id="297" name="CLOAC062" descr=""/>
          <p:cNvPicPr/>
          <p:nvPr/>
        </p:nvPicPr>
        <p:blipFill>
          <a:blip r:embed="rId2"/>
          <a:stretch/>
        </p:blipFill>
        <p:spPr>
          <a:xfrm>
            <a:off x="1676520" y="4038480"/>
            <a:ext cx="2280960" cy="1119240"/>
          </a:xfrm>
          <a:prstGeom prst="rect">
            <a:avLst/>
          </a:prstGeom>
          <a:ln w="0">
            <a:noFill/>
          </a:ln>
        </p:spPr>
      </p:pic>
      <p:pic>
        <p:nvPicPr>
          <p:cNvPr id="298" name="CLOAC055" descr=""/>
          <p:cNvPicPr/>
          <p:nvPr/>
        </p:nvPicPr>
        <p:blipFill>
          <a:blip r:embed="rId3"/>
          <a:stretch/>
        </p:blipFill>
        <p:spPr>
          <a:xfrm>
            <a:off x="3657600" y="3429000"/>
            <a:ext cx="1606680" cy="1154160"/>
          </a:xfrm>
          <a:prstGeom prst="rect">
            <a:avLst/>
          </a:prstGeom>
          <a:ln w="0">
            <a:noFill/>
          </a:ln>
        </p:spPr>
      </p:pic>
      <p:pic>
        <p:nvPicPr>
          <p:cNvPr id="299" name="CLOAC072" descr=""/>
          <p:cNvPicPr/>
          <p:nvPr/>
        </p:nvPicPr>
        <p:blipFill>
          <a:blip r:embed="rId4"/>
          <a:stretch/>
        </p:blipFill>
        <p:spPr>
          <a:xfrm>
            <a:off x="4952880" y="4129200"/>
            <a:ext cx="2057400" cy="928440"/>
          </a:xfrm>
          <a:prstGeom prst="rect">
            <a:avLst/>
          </a:prstGeom>
          <a:ln w="0">
            <a:noFill/>
          </a:ln>
        </p:spPr>
      </p:pic>
      <p:pic>
        <p:nvPicPr>
          <p:cNvPr id="300" name="CLOAC075" descr=""/>
          <p:cNvPicPr/>
          <p:nvPr/>
        </p:nvPicPr>
        <p:blipFill>
          <a:blip r:embed="rId5"/>
          <a:stretch/>
        </p:blipFill>
        <p:spPr>
          <a:xfrm>
            <a:off x="6705720" y="3352680"/>
            <a:ext cx="1803240" cy="12668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78240" y="5334120"/>
            <a:ext cx="784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Baseball caps are a la mode today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04812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05720" y="312408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number that appears most frequently in a set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06800" y="4800600"/>
            <a:ext cx="261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 = 1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1460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s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Avera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number that is repeated the mo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1296720" y="19051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9, 9, 4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96720" y="297180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4, 9, 9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67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2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1460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Ran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distanc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Betwee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Range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– the difference between the greatest and the least value in a set of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6960" y="4800600"/>
            <a:ext cx="30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Range = 1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3429000"/>
            <a:ext cx="9907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lowest and highest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441972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48520" y="4419720"/>
            <a:ext cx="99036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3 – Find the difference between these 2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1754280" y="32004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880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2448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69040" y="4267080"/>
            <a:ext cx="365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7 – 18 =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86720" y="5029200"/>
            <a:ext cx="451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The range is 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average of a group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287800" y="327672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7000" y="4724280"/>
            <a:ext cx="25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 = 3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40080" y="426708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 – 4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5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304812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92720" y="4267080"/>
            <a:ext cx="403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2 – 21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1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86600" y="2971800"/>
            <a:ext cx="8380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8, 3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 – 3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, 8, 11, 19, 3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3, 7, 9, 4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1 – 7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3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9, 23, 19, 4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541440" y="1913040"/>
            <a:ext cx="77551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part from ClickArt 125,000, T/Maker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ompany of Broderbund Software, Inc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redi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part from ClickArt 125,000, T/Maker Company of Broderbund Software, Inc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41911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37339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676520" y="3962520"/>
            <a:ext cx="914400" cy="106668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4343400"/>
            <a:ext cx="990360" cy="6858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36376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30481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mean = 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dd all the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449720" y="28195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0080" y="426708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449720" y="30481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0080" y="411480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5105520"/>
            <a:ext cx="739152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How many addends are there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17:58:31Z</dcterms:created>
  <dc:creator>Monica/Bob Yuskaitis</dc:creator>
  <dc:description/>
  <dc:language>en-US</dc:language>
  <cp:lastModifiedBy>Monica/Bob Yuskaitis</cp:lastModifiedBy>
  <dcterms:modified xsi:type="dcterms:W3CDTF">2000-02-22T00:50:17Z</dcterms:modified>
  <cp:revision>3</cp:revision>
  <dc:subject/>
  <dc:title>Mean, Median, Mode  &amp; Range</dc:title>
</cp:coreProperties>
</file>